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EDC-6353-470C-A5D9-0F3E2415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7B5-920F-4C58-B9ED-0375103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A67-6838-457B-84C2-14CA9251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588-2F76-4505-9A7F-1CDADA4D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CD7-955E-4CF4-A252-44280C57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F01-E6E4-4A3A-B84C-BB41188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3EF-0DB8-46C3-944D-DE258EE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8AD-FC99-4694-A24F-AC6A0E8E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23B-372D-43A4-A3DF-5DA2AB7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EE3-D639-4610-BDB1-848733C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485-74D9-4F67-A501-A2EAAAB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878-3FB5-4BBB-A4B2-583E388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15A7-1EEC-4196-BF2D-E8FE1BDC154A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4083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125360"/>
            <a:ext cx="324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8000" y="3867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125360"/>
            <a:ext cx="331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108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49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731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528624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3440" y="4516560"/>
            <a:ext cx="74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8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70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12-09T06:43:34Z</dcterms:modified>
  <cp:revision>144</cp:revision>
  <dc:subject/>
  <dc:title>PowerPoint Presentation</dc:title>
</cp:coreProperties>
</file>